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3B8-55FE-4DCF-9B85-8F853FC0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83C-D97A-499A-B3B5-195166AF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01B-E804-49F4-B7BD-E49068B4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48C-087A-4F4D-B4D3-CFE6BB83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0BA-9C5F-4040-8BD8-852EDFCE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BF96-0FC0-4392-A25B-5B02CB77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91A-C4D3-4041-8DAF-330A4A1D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1B9-0689-458A-A10A-B13D152F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576-DD9F-4459-9547-7A930320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451-1F6B-4FB4-8B0D-2D010B23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A3C-12F0-40EA-9ED7-BB3706F0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269-67A0-4A79-8DEC-286347E6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C2E6-AC09-443A-BAC6-8AA0CC401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Me llamo________ </a:t>
            </a: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	</a:t>
            </a: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	</a:t>
            </a: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Clase 6 NH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La fecha es el 11 de enero del 2012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Propósito # 31: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Cómo son tus amigos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Write any words, in Spanish, that you can use to describe a person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AC Futura Casual"/>
              </a:rPr>
              <a:t>Ejercicios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TEXTO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Le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Palabras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p. R2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Historieta 1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p. R3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TEXTO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Historieta 2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p. R3 (1-4)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Historieta 3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p. R3 (1-4)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8954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AC Futura Casual"/>
              </a:rPr>
              <a:t>Tarea # 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5:33:35Z</dcterms:created>
  <dc:creator>Helen Zumaeta</dc:creator>
  <dc:description/>
  <dc:language>en-US</dc:language>
  <cp:lastModifiedBy>Helen Zumaeta</cp:lastModifiedBy>
  <dcterms:modified xsi:type="dcterms:W3CDTF">2012-01-11T16:52:14Z</dcterms:modified>
  <cp:revision>3</cp:revision>
  <dc:subject/>
  <dc:title>Me llamo________   Clase 6 NH La fecha es el 11 de enero del 2012</dc:title>
</cp:coreProperties>
</file>